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203-E0A6-433F-9BB4-DC1775C1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18B-57E8-4C0C-8B42-C1DADD31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B20-AE38-4F21-A54B-F4B27D79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5E8-98DC-4DE0-8ACC-C2142386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DAB-03DA-4208-BF6D-30C79E4D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989-5065-4C8A-A35C-CCF6474A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537-71BA-4B37-8E81-55493B4C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87B-9EA1-4EE8-ABBD-234560BB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609-9D5C-4D83-ABDB-E954BE0B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0B6-1B16-4348-91A2-6F1B9777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64B-5CAC-43AC-9003-96BC5A34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440-3B2E-4BF2-B08F-1A9CE3F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98A9-55CA-4F42-87A6-16C5A363CB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zanne"/>
              </a:rPr>
              <a:t>Deutsch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Cezanne"/>
              </a:rPr>
              <a:t>expressionistisch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Cezanne"/>
              </a:rPr>
              <a:t>Fil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fwm_nos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010280" y="228600"/>
            <a:ext cx="1828800" cy="1157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ufa_met"/>
          <p:cNvPicPr/>
          <p:nvPr/>
        </p:nvPicPr>
        <p:blipFill>
          <a:blip r:embed="rId2"/>
          <a:stretch/>
        </p:blipFill>
        <p:spPr>
          <a:xfrm>
            <a:off x="2971800" y="413244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_cover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553080" y="2971800"/>
            <a:ext cx="240372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Caligari Poster"/>
          <p:cNvPicPr/>
          <p:nvPr/>
        </p:nvPicPr>
        <p:blipFill>
          <a:blip r:embed="rId4"/>
          <a:srcRect l="3326" t="0" r="0" b="0"/>
          <a:stretch/>
        </p:blipFill>
        <p:spPr>
          <a:xfrm>
            <a:off x="380880" y="2895480"/>
            <a:ext cx="2286000" cy="373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"/>
          <p:cNvPicPr/>
          <p:nvPr/>
        </p:nvPicPr>
        <p:blipFill>
          <a:blip r:embed="rId5"/>
          <a:stretch/>
        </p:blipFill>
        <p:spPr>
          <a:xfrm>
            <a:off x="609480" y="152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Bekannte Regisseu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wm_1925"/>
          <p:cNvPicPr/>
          <p:nvPr/>
        </p:nvPicPr>
        <p:blipFill>
          <a:blip r:embed="rId1"/>
          <a:stretch/>
        </p:blipFill>
        <p:spPr>
          <a:xfrm>
            <a:off x="6000840" y="2514600"/>
            <a:ext cx="253368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095880" y="6172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W. Murna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161000" y="618660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tz La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7" descr="lang"/>
          <p:cNvPicPr/>
          <p:nvPr/>
        </p:nvPicPr>
        <p:blipFill>
          <a:blip r:embed="rId2"/>
          <a:stretch/>
        </p:blipFill>
        <p:spPr>
          <a:xfrm>
            <a:off x="762120" y="2514600"/>
            <a:ext cx="2706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371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Bekannte Schauspiel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m_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80880" y="2819520"/>
            <a:ext cx="333396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rcRect l="0" t="4835" r="0" b="4835"/>
          <a:stretch/>
        </p:blipFill>
        <p:spPr>
          <a:xfrm>
            <a:off x="5553000" y="990720"/>
            <a:ext cx="327672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931680" y="571500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ter Lor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791320" y="5562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lene Dietri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Expressionistische </a:t>
            </a: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 Zü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m_2"/>
          <p:cNvPicPr/>
          <p:nvPr/>
        </p:nvPicPr>
        <p:blipFill>
          <a:blip r:embed="rId1"/>
          <a:stretch/>
        </p:blipFill>
        <p:spPr>
          <a:xfrm>
            <a:off x="152280" y="1219320"/>
            <a:ext cx="3048120" cy="259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365400" y="3774960"/>
            <a:ext cx="25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ntrast zwisch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l und dunk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" descr="lorre_spiegel"/>
          <p:cNvPicPr/>
          <p:nvPr/>
        </p:nvPicPr>
        <p:blipFill>
          <a:blip r:embed="rId2">
            <a:lum bright="6000"/>
          </a:blip>
          <a:srcRect l="1961" t="0" r="0" b="0"/>
          <a:stretch/>
        </p:blipFill>
        <p:spPr>
          <a:xfrm>
            <a:off x="4876920" y="2286000"/>
            <a:ext cx="3809880" cy="290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nosfera1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914400" y="4591080"/>
            <a:ext cx="3352680" cy="2114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4371840" y="6172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eme Situ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362920" y="525780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übertriebene Gefüh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Expressionistische Zü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fwm_nos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2743200" cy="1735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58920" y="312408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örende Blickwink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181120" y="61722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reotypische Pers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3" descr="fl_met1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81480" y="4181400"/>
            <a:ext cx="3105360" cy="2067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5790600" y="320040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ntastische Kuliss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774000" y="609588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drehte Wirklichke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6"/>
          <p:cNvGrpSpPr/>
          <p:nvPr/>
        </p:nvGrpSpPr>
        <p:grpSpPr>
          <a:xfrm>
            <a:off x="457200" y="2332080"/>
            <a:ext cx="8229600" cy="360"/>
            <a:chOff x="457200" y="2332080"/>
            <a:chExt cx="8229600" cy="360"/>
          </a:xfrm>
        </p:grpSpPr>
        <p:sp>
          <p:nvSpPr>
            <p:cNvPr id="74" name="Rectangle 25"/>
            <p:cNvSpPr/>
            <p:nvPr/>
          </p:nvSpPr>
          <p:spPr>
            <a:xfrm>
              <a:off x="457200" y="2332080"/>
              <a:ext cx="82296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8"/>
            <p:cNvSpPr/>
            <p:nvPr/>
          </p:nvSpPr>
          <p:spPr>
            <a:xfrm>
              <a:off x="457200" y="2332080"/>
              <a:ext cx="82296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" name="Picture 20" descr="Holstenwall Carnival Sideshow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62120" y="3886200"/>
            <a:ext cx="3143160" cy="2171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7"/>
          <p:cNvSpPr/>
          <p:nvPr/>
        </p:nvSpPr>
        <p:spPr>
          <a:xfrm>
            <a:off x="166680" y="241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9" descr="cal2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172200" y="1295280"/>
            <a:ext cx="2571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2:27:47Z</dcterms:created>
  <dc:creator>Van Orden</dc:creator>
  <dc:description/>
  <dc:language>en-US</dc:language>
  <cp:lastModifiedBy>Stefan</cp:lastModifiedBy>
  <dcterms:modified xsi:type="dcterms:W3CDTF">2010-10-26T17:26:21Z</dcterms:modified>
  <cp:revision>10</cp:revision>
  <dc:subject/>
  <dc:title>Deutsche expressionistische Filme</dc:title>
</cp:coreProperties>
</file>